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2EE-3E2F-4F4D-BDFD-DAC52BF7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0C0-D7E6-49F8-92FE-90025032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652-8567-4681-A624-E535D7BD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53F-C5BB-4D60-8122-0D3150AE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3A1-133D-45C5-955F-E7DEF94F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E1B7-2B34-4DC5-A5C7-B1C1ABA3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7D1A-EB77-4975-A547-9B04C37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626F-4431-4A97-9B1E-931A9E59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EA1B-38E0-4681-980B-3E09DE9B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E674-FC5F-496E-828B-B82C32E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CBAA-E44A-4280-8E15-CF3D5D8C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1D8-5DF5-43FD-A47A-06943AF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9742-7E7E-44B0-A9E1-C7E0077B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7A0A-09BC-4EB1-A66A-352657F6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3715-CAB8-4468-841E-BFC56641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04F8-C85B-43F9-BAA0-87F5E9D1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57BC-36B0-4659-90F2-C5BC2C4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DEB4-3D8F-4370-B14C-C4C6FA08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8AB-4C40-496D-A48E-7280416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6BE-FF18-4BB2-939F-4B53381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30B-777B-4745-AFF2-F9FC8771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9AF-F372-42DC-B0CD-432B3E2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845-1879-4972-AC89-3C6300F5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9DE3-F499-4B55-888D-372AF773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9B9-3638-42F8-B219-A33A54F9F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4CE4-E984-4392-B13A-A8E128D9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atter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ky i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Matter is made of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cket is chir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=n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ck birds won’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 as much beca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ease damag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vocal c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boils at 100 degrees Celsiu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s are capable of cutting glas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an be separated by electrolysis into hydrogen and oxygen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is capable of dissolving in wate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egar will react with baking soda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st acts on sugar to form carbon dioxide and ethanol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 is flammable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monia is a gas at room temperature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mine has a red colo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deal, but now with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 is chopped into four equal pie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placed in a freezer turns to 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usts in a damp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and sugar are poured into a cup and shaken until evenly distrib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t is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oline burns in the presence of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peroxide decomposes to oxygen an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g is chopped into four equal pieces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laced in a freezer turns to ice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usts in a damp environment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d and sugar are poured into a cup and shaken until evenly distributed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is dissolved in water. - 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oline burns in the presence of oxygen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peroxide decomposes to oxygen and water. -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ystery Powder Lab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making predictions and hypo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distinguishing between physical and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complete page 1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ight be examples of physical properties that powders could have?  Chemical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 and 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physical and a chemical prop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physical and a chemical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Mystery Powder Lab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ggles 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handling liquids, some of them can stain your s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oughly wash your glassware after each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eck your procedure with me before you can conti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hat your observations ARE observat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Homework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 Powder lab will be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Objectiv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operties as being physical or chem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making observations, predictions, and hypo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ll of this is gearing up for being able to put together your own experimental desig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For Starter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ould please… list as many things as you can think of that could be different depending upon what the thing or substanc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erty is a quality that something possesses.  We break down the properties of matter into two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Property: Can be observed without a chemical reaction of the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you can think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emical Property: Property having to do with the substance’s chemical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85560"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hink of examples for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hang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physical changes are changes to a physical property, chemical changes changes to a chemical property.  More precis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hange: Changes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rran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of the substance, but not what i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emical Change: Chang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at the substance i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t the molecular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icker to the pair who gets the most of thes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ether each of these is a physical change or a chemical prope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Properties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oils at 100 degrees Cels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s are capable of cutting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can be separated by electrolysis into hydrogen and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apable of dissolving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negar will react with baking s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st acts on sugar to form carbon dioxide and eth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is flamm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is a gas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7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mine has a red 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2:42:21Z</dcterms:created>
  <dc:creator>Rebecca Stang</dc:creator>
  <dc:description/>
  <dc:language>en-US</dc:language>
  <cp:lastModifiedBy>Rebecca Stang</cp:lastModifiedBy>
  <dcterms:modified xsi:type="dcterms:W3CDTF">2009-08-28T18:18:39Z</dcterms:modified>
  <cp:revision>16</cp:revision>
  <dc:subject/>
  <dc:title>Matter</dc:title>
</cp:coreProperties>
</file>